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2546-B636-4887-9978-3C250B472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91440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969000"/>
            <a:ext cx="91440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1BBE-9D3F-4BFA-BE7D-D22A45B2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8723-4B9D-49C8-A15E-3390A163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13302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13302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9690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9690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9690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98C7-12D6-4FAA-BD3B-28415A062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1330200"/>
            <a:ext cx="9144000" cy="50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91440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43920"/>
            <a:ext cx="91440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1330200"/>
            <a:ext cx="9144000" cy="50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72BB-D7CD-4F91-AB2F-2B5DD087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576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0" y="3969000"/>
            <a:ext cx="91440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91440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0" y="3969000"/>
            <a:ext cx="91440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576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91680" y="13302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83360" y="13302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0" y="39690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091680" y="39690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83360" y="39690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1330200"/>
            <a:ext cx="9144000" cy="50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91440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91440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256B-0803-47D0-A521-352CBEED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0" y="43920"/>
            <a:ext cx="91440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8576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0" y="3969000"/>
            <a:ext cx="91440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91440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0" y="3969000"/>
            <a:ext cx="91440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8576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91680" y="13302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83360" y="13302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0" y="39690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091680" y="39690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183360" y="39690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2FFF-E060-4AA9-A968-7462420E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42B8-3AD4-4962-B4C9-98EA96D4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43920"/>
            <a:ext cx="91440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07C2-C034-462A-B638-ADD54B16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B7A6-E80D-4E25-9374-A01BAC09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CCD2-4CD2-407B-9E51-BA4D1F3E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969000"/>
            <a:ext cx="91440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07A4-3A4D-47A8-A5C5-A23CD318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1C7F-53FB-4E2B-8538-8DD506F9A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0" y="1330200"/>
            <a:ext cx="91440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280" y="1341360"/>
            <a:ext cx="8223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ftr" idx="4"/>
          </p:nvPr>
        </p:nvSpPr>
        <p:spPr>
          <a:xfrm>
            <a:off x="3124080" y="656100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JE Campagne Branville 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836640"/>
            <a:ext cx="861084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6760" y="652464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90440" y="34920"/>
            <a:ext cx="1068480" cy="79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n grand laboratoire au Fréjus pour MEMPHYS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35280" y="5157720"/>
            <a:ext cx="468144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ût estimé 1 cavité stabilisée ≈ 80 M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quipé de 80,000 PMTs 12’’      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≈ 80 M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9640" y="1700280"/>
            <a:ext cx="2916360" cy="2020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249480" y="1125360"/>
            <a:ext cx="88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ésultat d’une étude préliminaire par la Société SETEC (constructeur du tun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8000" y="3860640"/>
            <a:ext cx="633708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Tunnel de Sécurité</a:t>
            </a:r>
            <a:r>
              <a:rPr b="1" lang="fr-FR" sz="1800" spc="-1" strike="noStrike">
                <a:solidFill>
                  <a:srgbClr val="ccff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ccff66"/>
                </a:solidFill>
                <a:latin typeface="Arial"/>
              </a:rPr>
              <a:t>mars 2006   </a:t>
            </a:r>
            <a:r>
              <a:rPr b="1" lang="fr-FR" sz="1800" spc="-1" strike="noStrike">
                <a:solidFill>
                  <a:srgbClr val="ccff66"/>
                </a:solidFill>
                <a:latin typeface="Arial"/>
              </a:rPr>
              <a:t>   </a:t>
            </a:r>
            <a:r>
              <a:rPr b="1" sz="1800" spc="-1" strike="noStrike">
                <a:solidFill>
                  <a:srgbClr val="ccff66"/>
                </a:solidFill>
                <a:latin typeface="Arial"/>
              </a:rPr>
              <a:t>8.20m </a:t>
            </a:r>
            <a:r>
              <a:rPr b="1" lang="fr-FR" sz="1800" spc="-1" strike="noStrike">
                <a:solidFill>
                  <a:srgbClr val="ccff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ccff66"/>
                </a:solidFill>
                <a:latin typeface="Arial"/>
              </a:rPr>
              <a:t>Comité de Sécurité Franco-Ital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ccecff"/>
                </a:solidFill>
                <a:latin typeface="Arial"/>
              </a:rPr>
              <a:t>21 avril 2006</a:t>
            </a:r>
            <a:r>
              <a:rPr b="0" sz="1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1" sz="1800" spc="-1" strike="noStrike">
                <a:solidFill>
                  <a:srgbClr val="ccecff"/>
                </a:solidFill>
                <a:latin typeface="Arial"/>
              </a:rPr>
              <a:t>8.00</a:t>
            </a:r>
            <a:r>
              <a:rPr b="1" lang="fr-FR" sz="1800" spc="-1" strike="noStrike">
                <a:solidFill>
                  <a:srgbClr val="ccecff"/>
                </a:solidFill>
                <a:latin typeface="Arial"/>
              </a:rPr>
              <a:t>m</a:t>
            </a:r>
            <a:r>
              <a:rPr b="1" sz="1800" spc="-1" strike="noStrike">
                <a:solidFill>
                  <a:srgbClr val="ccecff"/>
                </a:solidFill>
                <a:latin typeface="Arial"/>
              </a:rPr>
              <a:t> “utiles”</a:t>
            </a:r>
            <a:r>
              <a:rPr b="1" lang="fr-FR" sz="1800" spc="-1" strike="noStrike">
                <a:solidFill>
                  <a:srgbClr val="ccecff"/>
                </a:solidFill>
                <a:latin typeface="Arial"/>
              </a:rPr>
              <a:t> par la </a:t>
            </a:r>
            <a:r>
              <a:rPr b="1" sz="1800" spc="-1" strike="noStrike">
                <a:solidFill>
                  <a:srgbClr val="ccecff"/>
                </a:solidFill>
                <a:latin typeface="Arial"/>
              </a:rPr>
              <a:t>Commission Inter-Gouvernementale Franco-Itali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6004080" cy="2008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836720" y="2054160"/>
            <a:ext cx="3521160" cy="36828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 LSM dans sa forme actu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2565360"/>
            <a:ext cx="142920" cy="50328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87640" y="3068640"/>
            <a:ext cx="863640" cy="1440"/>
          </a:xfrm>
          <a:custGeom>
            <a:avLst/>
            <a:gdLst/>
            <a:ahLst/>
            <a:rect l="l" t="t" r="r" b="b"/>
            <a:pathLst>
              <a:path w="544" h="1">
                <a:moveTo>
                  <a:pt x="0" y="0"/>
                </a:moveTo>
                <a:cubicBezTo>
                  <a:pt x="226" y="0"/>
                  <a:pt x="453" y="0"/>
                  <a:pt x="544" y="0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116000" y="2708280"/>
            <a:ext cx="719280" cy="1225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794280" y="4076640"/>
            <a:ext cx="2357640" cy="2587680"/>
            <a:chOff x="6794280" y="4076640"/>
            <a:chExt cx="2357640" cy="2587680"/>
          </a:xfrm>
        </p:grpSpPr>
        <p:sp>
          <p:nvSpPr>
            <p:cNvPr id="131" name=""/>
            <p:cNvSpPr/>
            <p:nvPr/>
          </p:nvSpPr>
          <p:spPr>
            <a:xfrm>
              <a:off x="7331040" y="4506840"/>
              <a:ext cx="150192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19880" y="4105080"/>
              <a:ext cx="1525680" cy="16178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99440" y="4500360"/>
              <a:ext cx="136368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7451640" y="4728600"/>
              <a:ext cx="1268640" cy="41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19720" y="4076640"/>
              <a:ext cx="203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  <a:ea typeface="ＭＳ Ｐゴシック"/>
                </a:rPr>
                <a:t>65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7424640" y="4895640"/>
              <a:ext cx="28800" cy="1541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00800" y="4489200"/>
              <a:ext cx="1555920" cy="598680"/>
            </a:xfrm>
            <a:prstGeom prst="ellipse">
              <a:avLst/>
            </a:prstGeom>
            <a:noFill/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951680" y="5257800"/>
              <a:ext cx="831960" cy="1298520"/>
            </a:xfrm>
            <a:prstGeom prst="can">
              <a:avLst>
                <a:gd name="adj" fmla="val 25000"/>
              </a:avLst>
            </a:prstGeom>
            <a:solidFill>
              <a:srgbClr val="6e2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K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94280" y="5305320"/>
              <a:ext cx="203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99"/>
                  </a:solidFill>
                  <a:latin typeface="Comic Sans MS"/>
                  <a:ea typeface="ＭＳ Ｐゴシック"/>
                </a:rPr>
                <a:t>65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22920" y="5950080"/>
            <a:ext cx="405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3 puits = 440kT fid.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380000" y="2852640"/>
            <a:ext cx="431640" cy="1224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40360" y="5950080"/>
            <a:ext cx="296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puits = 4x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s détecteur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Č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erenkov à Eau dans le mon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477720"/>
          <a:ext cx="9144000" cy="6356520"/>
        </p:xfrm>
        <a:graphic>
          <a:graphicData uri="http://schemas.openxmlformats.org/drawingml/2006/table">
            <a:tbl>
              <a:tblPr/>
              <a:tblGrid>
                <a:gridCol w="1619280"/>
                <a:gridCol w="3024000"/>
                <a:gridCol w="2214720"/>
                <a:gridCol w="228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O (US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K (Jap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MPHYS (E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aborato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ie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nderson/Homesta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chib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éj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of. M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500/4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BL(k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8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÷2760/1280÷25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imsensions du détect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cu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 tunnels de 5 comparti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à 5 pu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im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x60x60m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3m x L:50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m x L:65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 fid. K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40 à 7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hotodetect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’’ PM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’’ H(A)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’’ PM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000 (milie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 x 9500 (coté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,000 par comparti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,000 par p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uver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%/10% (milieu/coté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ût estimé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0M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0 Oku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1M€ x #puits +100M€ infr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5514480" y="5805360"/>
            <a:ext cx="366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50% excavation + 50% Photode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2411280" y="1989000"/>
            <a:ext cx="2043360" cy="2509920"/>
            <a:chOff x="2411280" y="1989000"/>
            <a:chExt cx="2043360" cy="2509920"/>
          </a:xfrm>
        </p:grpSpPr>
        <p:sp>
          <p:nvSpPr>
            <p:cNvPr id="147" name=""/>
            <p:cNvSpPr/>
            <p:nvPr/>
          </p:nvSpPr>
          <p:spPr>
            <a:xfrm>
              <a:off x="2698200" y="2537640"/>
              <a:ext cx="82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cc"/>
                  </a:solidFill>
                  <a:latin typeface="Tahoma"/>
                  <a:ea typeface="ＭＳ Ｐゴシック"/>
                </a:rPr>
                <a:t>1st pea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979720" y="3605400"/>
              <a:ext cx="822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cc"/>
                  </a:solidFill>
                  <a:latin typeface="Tahoma"/>
                  <a:ea typeface="ＭＳ Ｐゴシック"/>
                </a:rPr>
                <a:t>2nd pea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2411280" y="2092680"/>
              <a:ext cx="2012400" cy="2324160"/>
            </a:xfrm>
            <a:prstGeom prst="rect">
              <a:avLst/>
            </a:prstGeom>
            <a:ln w="9360">
              <a:solidFill>
                <a:srgbClr val="000066"/>
              </a:solidFill>
              <a:miter/>
            </a:ln>
          </p:spPr>
        </p:pic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2433960" y="1989000"/>
              <a:ext cx="202068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2635200" y="2745720"/>
              <a:ext cx="3970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Times New Roman"/>
                  <a:ea typeface="ＭＳ Ｐゴシック"/>
                </a:rPr>
                <a:t>0 p.e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61000" y="3459960"/>
              <a:ext cx="884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0000"/>
                  </a:solidFill>
                  <a:latin typeface="Times New Roman"/>
                  <a:ea typeface="ＭＳ Ｐゴシック"/>
                </a:rPr>
                <a:t>30,000 electr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52640" y="3613320"/>
              <a:ext cx="226080" cy="1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46520" y="2981520"/>
              <a:ext cx="0" cy="196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47200" y="2246040"/>
              <a:ext cx="3970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Times New Roman"/>
                  <a:ea typeface="ＭＳ Ｐゴシック"/>
                </a:rPr>
                <a:t>1 p.e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3085920" y="2373480"/>
              <a:ext cx="181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406520" y="3860640"/>
            <a:ext cx="822240" cy="4597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684360" y="4437000"/>
            <a:ext cx="3784320" cy="2044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4572000" y="3500280"/>
            <a:ext cx="4371840" cy="2430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741640" y="5553000"/>
            <a:ext cx="3732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H. Aihara @ NNN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13480" y="6021360"/>
            <a:ext cx="205668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-25000">
                <a:solidFill>
                  <a:srgbClr val="ff0000"/>
                </a:solidFill>
                <a:latin typeface="Comic Sans MS"/>
              </a:rPr>
              <a:t>20kV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&amp;D Photodetecte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3800" y="3213000"/>
            <a:ext cx="1956240" cy="36828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mamatsu R&amp;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53320" y="6021360"/>
            <a:ext cx="3006360" cy="368280"/>
          </a:xfrm>
          <a:prstGeom prst="rect">
            <a:avLst/>
          </a:prstGeom>
          <a:solidFill>
            <a:srgbClr val="003f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Needs low noise electro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751280" y="0"/>
            <a:ext cx="4392720" cy="1953000"/>
            <a:chOff x="4751280" y="0"/>
            <a:chExt cx="4392720" cy="1953000"/>
          </a:xfrm>
        </p:grpSpPr>
        <p:sp>
          <p:nvSpPr>
            <p:cNvPr id="166" name=""/>
            <p:cNvSpPr/>
            <p:nvPr/>
          </p:nvSpPr>
          <p:spPr>
            <a:xfrm>
              <a:off x="4751280" y="25560"/>
              <a:ext cx="4392720" cy="19274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Diameter               20“   &lt;=&gt;    12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projected area      1660          615    cm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QE(typ)                   20              24   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CE</a:t>
              </a:r>
              <a:r>
                <a:rPr b="0" lang="de-DE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	</a:t>
              </a:r>
              <a:r>
                <a:rPr b="0" lang="de-DE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                  60             70   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Cost                  2500        800  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Cost/p.e/cm       13              8   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846920" y="0"/>
              <a:ext cx="1297080" cy="1944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980000" y="60199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3956"/>
                </a:solidFill>
                <a:latin typeface="Arial"/>
                <a:ea typeface="Arial"/>
              </a:rPr>
              <a:t>→ </a:t>
            </a:r>
            <a:r>
              <a:rPr b="1" lang="en-US" sz="2400" spc="-1" strike="noStrike">
                <a:solidFill>
                  <a:srgbClr val="1c3956"/>
                </a:solidFill>
                <a:latin typeface="Arial"/>
              </a:rPr>
              <a:t>20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13760" y="198900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PMT Photonis@NNN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17120" y="11700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&amp;D Electron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836640"/>
            <a:ext cx="8153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Integrated readout : “digital PM (bits out)”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harge measurement (12bits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ime measurement (1ns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ngle photoelectron sensitivity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igh counting rate capability (target 100 MHz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arge area pixellised PM 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16 low cost PM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entralized ASIC for DAQ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Variable gain to have only one HV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Multichannel readou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Gain adjustmen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ubsequent versions of OPERA_ROC ASIC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etwork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Wireless?</a:t>
            </a:r>
            <a:endParaRPr b="0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597720" y="3716280"/>
            <a:ext cx="2511360" cy="2735280"/>
            <a:chOff x="6597720" y="3716280"/>
            <a:chExt cx="2511360" cy="2735280"/>
          </a:xfrm>
        </p:grpSpPr>
        <p:pic>
          <p:nvPicPr>
            <p:cNvPr id="173" name="" descr=""/>
            <p:cNvPicPr/>
            <p:nvPr/>
          </p:nvPicPr>
          <p:blipFill>
            <a:blip r:embed="rId6"/>
            <a:stretch/>
          </p:blipFill>
          <p:spPr>
            <a:xfrm>
              <a:off x="6597720" y="3716280"/>
              <a:ext cx="2511360" cy="27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 txBox="1"/>
            <p:nvPr/>
          </p:nvSpPr>
          <p:spPr>
            <a:xfrm>
              <a:off x="6597720" y="3716280"/>
              <a:ext cx="2511360" cy="273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SzPct val="10000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5" name="" descr=""/>
          <p:cNvPicPr/>
          <p:nvPr/>
        </p:nvPicPr>
        <p:blipFill>
          <a:blip r:embed="rId8"/>
          <a:stretch/>
        </p:blipFill>
        <p:spPr>
          <a:xfrm>
            <a:off x="6611760" y="504720"/>
            <a:ext cx="2532240" cy="2853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573080" y="602136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PNO-LAL-L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French funding agency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(ANR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≠ CNRS/IN2P3 and CE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329840"/>
            <a:ext cx="9144000" cy="41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emand for a Joint R&amp;D 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500" spc="-1" strike="noStrike">
                <a:solidFill>
                  <a:srgbClr val="ffffff"/>
                </a:solidFill>
                <a:latin typeface="Comic Sans MS"/>
              </a:rPr>
              <a:t>LAL-IPNO-LAPP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500" spc="-1" strike="noStrike">
                <a:solidFill>
                  <a:srgbClr val="ffffff"/>
                </a:solidFill>
                <a:latin typeface="Comic Sans MS"/>
              </a:rPr>
              <a:t>Photonis Co.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Comic Sans MS"/>
              </a:rPr>
              <a:t>3years, 400k€, 1FTE physicist, 5FTE Engineers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LAL: electonics: 100k€ + 1 post-doc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PNO: photodetector tests + mechanics: 18Ok€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LAPP: Data network: 53k€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hotonis: PMTs provider: 64k€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2971440" y="5916600"/>
            <a:ext cx="480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xpected answer in July 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0" y="1484280"/>
            <a:ext cx="9143640" cy="3270240"/>
            <a:chOff x="0" y="1484280"/>
            <a:chExt cx="9143640" cy="3270240"/>
          </a:xfrm>
        </p:grpSpPr>
        <p:grpSp>
          <p:nvGrpSpPr>
            <p:cNvPr id="181" name=""/>
            <p:cNvGrpSpPr/>
            <p:nvPr/>
          </p:nvGrpSpPr>
          <p:grpSpPr>
            <a:xfrm>
              <a:off x="5400" y="1484280"/>
              <a:ext cx="9138240" cy="3270240"/>
              <a:chOff x="5400" y="1484280"/>
              <a:chExt cx="9138240" cy="3270240"/>
            </a:xfrm>
          </p:grpSpPr>
          <p:sp>
            <p:nvSpPr>
              <p:cNvPr id="182" name=""/>
              <p:cNvSpPr/>
              <p:nvPr/>
            </p:nvSpPr>
            <p:spPr>
              <a:xfrm>
                <a:off x="5400" y="1484280"/>
                <a:ext cx="9138240" cy="327024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86120" y="1641960"/>
                <a:ext cx="8128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Year       2005                      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  <a:ea typeface="ＭＳ Ｐゴシック"/>
                  </a:rPr>
                  <a:t>2010</a:t>
                </a: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                        2015                 202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400" y="2044080"/>
                <a:ext cx="183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Safety tunn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839240" y="2044080"/>
                <a:ext cx="137340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911960" y="2044080"/>
                <a:ext cx="1377000" cy="3682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Excav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400" y="2404440"/>
                <a:ext cx="1330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Lab cav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495240" y="2404440"/>
                <a:ext cx="2590560" cy="3682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Excav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407600" y="2404440"/>
                <a:ext cx="575640" cy="307080"/>
              </a:xfrm>
              <a:prstGeom prst="rect">
                <a:avLst/>
              </a:prstGeom>
              <a:solidFill>
                <a:srgbClr val="0078f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66"/>
                    </a:solidFill>
                    <a:latin typeface="Arial"/>
                    <a:ea typeface="ＭＳ Ｐゴシック"/>
                  </a:rPr>
                  <a:t>P.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83600" y="2404440"/>
                <a:ext cx="1305360" cy="3682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Stud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400" y="2761560"/>
                <a:ext cx="1618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 </a:t>
                </a: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detecto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839240" y="2761560"/>
                <a:ext cx="1448280" cy="3682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PM R&amp;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495240" y="2761560"/>
                <a:ext cx="2806560" cy="3682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PMT produc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400" y="3168360"/>
                <a:ext cx="183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Det.prepar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365800" y="3119760"/>
                <a:ext cx="2016360" cy="3682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Install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495240" y="3119760"/>
                <a:ext cx="1870200" cy="3682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Outside lab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400" y="3575880"/>
                <a:ext cx="197820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301800" y="3524400"/>
                <a:ext cx="2841480" cy="36828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P-decay, S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62080" y="3987360"/>
                <a:ext cx="16484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782880" y="3987360"/>
                <a:ext cx="2877480" cy="3682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Construc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660720" y="3987360"/>
                <a:ext cx="2482560" cy="36828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Superbea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29040" y="4346640"/>
                <a:ext cx="14385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660720" y="4344480"/>
                <a:ext cx="2482560" cy="36828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Beta bea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831320" y="3121200"/>
                <a:ext cx="18360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365800" y="2403360"/>
                <a:ext cx="0" cy="255600"/>
              </a:xfrm>
              <a:prstGeom prst="line">
                <a:avLst/>
              </a:prstGeom>
              <a:ln w="9360">
                <a:solidFill>
                  <a:srgbClr val="cc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782880" y="4344480"/>
                <a:ext cx="2877480" cy="3682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Construc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351240" y="1944000"/>
                <a:ext cx="0" cy="28105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0" y="3814560"/>
              <a:ext cx="3274200" cy="8323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decision for cavity diggin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decision for CERN SPL construc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decision for EURISOL site at CER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581280" y="201780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8ff26"/>
                </a:solidFill>
                <a:latin typeface="Arial"/>
                <a:ea typeface="ＭＳ Ｐゴシック"/>
              </a:rPr>
              <a:t>Guideline for a megaton scale Water Cherenk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33336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ommentaire à Stavr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4000" y="1197000"/>
            <a:ext cx="2303280" cy="2303280"/>
          </a:xfrm>
          <a:prstGeom prst="donut">
            <a:avLst>
              <a:gd name="adj" fmla="val 48175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476360" y="1557360"/>
            <a:ext cx="934920" cy="719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411280" y="980640"/>
            <a:ext cx="719280" cy="576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916360" y="2349360"/>
                <a:ext cx="587988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nA</m:t>
                            </m:r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π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π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nary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900000" y="4149720"/>
                <a:ext cx="62992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creaning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AL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19:03:07Z</dcterms:created>
  <dc:creator>J.E Campagne</dc:creator>
  <dc:description/>
  <dc:language>en-US</dc:language>
  <cp:lastModifiedBy>J.E Campagne</cp:lastModifiedBy>
  <dcterms:modified xsi:type="dcterms:W3CDTF">2006-06-21T19:34:33Z</dcterms:modified>
  <cp:revision>2</cp:revision>
  <dc:subject/>
  <dc:title>Un grand laboratoire au Fréjus pour MEMPHYS ?</dc:title>
</cp:coreProperties>
</file>